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943725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047B-02F4-46BD-B19C-325A00AF0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0399-38C4-4288-A642-DC251156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E2FC-9C5D-4C3D-AD1D-9A646E299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B240-654E-4067-A1C6-33273038C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AA9C-9F7B-4ED9-AA00-9F2B07777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7D88-E3C5-431D-8141-A41EE64E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D218-7D07-484A-9208-340454CC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BECD-C738-4D0B-B4CE-D774D801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1BE8-66C9-44E9-AEE5-C3C0DEBE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AC93-C0C3-4D7C-AFF5-C312F1F5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45CF-CC3C-4419-BA2C-88747B31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A5F9-943B-492C-B45D-B41969A8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DAB8-3A3C-4B70-994E-2AE6D6B5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8CFF-B806-4A8F-BE27-26FC5D2E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F42F-2F01-41A6-AA4F-8CA805CF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C7CA-7C47-4E96-B9E0-877A9F10B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D1EC-131C-4B54-B1C9-497A5ADB7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5255-0F46-4167-A2BA-7AB57C14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FA21-0E94-461B-8400-FB4C3C1E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B03C-4A97-43C8-A76D-2593CABC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768D-B27A-446D-834E-CA557F0E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C57E-D980-4B22-AD3D-849731C3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C398-6056-4597-9192-D3E515C0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6998-FF02-4058-BAB6-B74B3755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476760"/>
            <a:ext cx="4419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66"/>
                </a:solidFill>
                <a:latin typeface="Times New Roman"/>
              </a:rPr>
              <a:t>AWG</a:t>
            </a: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/</a:t>
            </a:r>
            <a:r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200</a:t>
            </a:r>
            <a:r>
              <a:rPr b="0" lang="nl-NL" sz="1000" spc="-1" strike="noStrike">
                <a:solidFill>
                  <a:srgbClr val="000066"/>
                </a:solidFill>
                <a:latin typeface="Times New Roman"/>
              </a:rPr>
              <a:t>5/07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05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8314-76AB-4D24-BC44-F0539BFC81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914400"/>
            <a:ext cx="3343320" cy="12240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7927920" y="5745240"/>
            <a:ext cx="83520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B50D-5036-4026-9FA3-64A4F78831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505320"/>
            <a:ext cx="3352680" cy="16020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04040" y="163440"/>
            <a:ext cx="1382760" cy="1589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2120" y="3657600"/>
            <a:ext cx="2819160" cy="60948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19200" y="18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2412720" y="4005360"/>
              <a:ext cx="70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S-10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741800" y="3933720"/>
              <a:ext cx="70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S-01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17440" y="3933720"/>
              <a:ext cx="70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S-08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442000" y="3933720"/>
              <a:ext cx="70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S-16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CS1 Stat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S-al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0 Mbps output (80% of go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: Timestamps not o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olved (new firmware downloaded to all st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mtracking: verified (qualitati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st LCU 6.1 version operational on all s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2916360" y="4589640"/>
            <a:ext cx="3024000" cy="2268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eri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t week pulsar observations with static beamforming @ 160MHz and 200MHz clock: fai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t weekend: measurement set of 16 uStations cre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sterday pulsar 0329+54 tracked @ 160 M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ansient Buffer Bo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087560"/>
            <a:ext cx="9144000" cy="47512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Andre Gunst</dc:creator>
  <dc:description/>
  <dc:language>en-US</dc:language>
  <cp:lastModifiedBy>Andre Gunst</cp:lastModifiedBy>
  <cp:lastPrinted>1999-11-09T09:34:59Z</cp:lastPrinted>
  <dcterms:modified xsi:type="dcterms:W3CDTF">2006-11-29T12:56:01Z</dcterms:modified>
  <cp:revision>218</cp:revision>
  <dc:subject/>
  <dc:title>LOFAR Introduction</dc:title>
</cp:coreProperties>
</file>